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E56D-AA52-414B-AD82-5F015AD54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F2C74-393B-4C47-BF87-987D17F4B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D1FD8-2303-47A6-A91E-923C7CEA3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50CF8-ECE5-438E-90CE-17DAD1380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D0522-D702-4263-BDCA-AFF5A7463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2E412-AADB-4538-A3D2-5840400D8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427BF-0340-4A0C-8BD4-59E7607C0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36008-77A4-4555-8430-1D29F9424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0684B-CEC2-4606-A0B4-93E06A3DB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18284-476A-4935-BC3C-95F5594A4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85B2D-58EE-46C7-8864-4BA3645BE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09E08-739F-4136-BC02-801A55E39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27A65-B8C8-4689-9EE6-530D22FF9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A2F0A-4D6F-4DAB-9B8C-F7D589D0B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8B007-334F-4C3C-A02A-8E9DB2CCA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483D8-7F53-478B-B6D0-5B71257BA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2783B-187B-4F86-B323-08CCA2AFA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BBBA7B-B4C1-40E6-BBDB-7EB3BF5B6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19021-DDC3-4497-8A7B-683C89624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AF263A-F60E-46DB-89FD-0CE141866F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063B4-BB91-450F-A60A-D79C76B16E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29B3D1-9A7D-42AB-B48C-ECD6EEB42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390FC-4A84-4DC0-B6C4-F774EF680E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EB606-705A-431D-AF95-423A5B54A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3D864-8086-486E-BC6C-A38D65D11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66F40-431B-49B8-A760-4D586F7D9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32841-5129-441D-89EA-C6FACBFBB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3D0EF-786F-4CF0-BF58-4E7086446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12F45-0DFE-473D-8C2A-865843AB8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BF06D5-0615-4C47-9CFC-23124EF07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3EA9AF-3CE0-445C-BDCE-5D7D844056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52F446-97EB-45D5-B9F7-8D8F15130B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1A75D4-8D54-4895-B8EB-48E109C5B2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48E37-250D-4B06-98E9-285794548B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EA145-B98A-4F40-9F23-CCB45BFD5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5B4AA-48CC-4C19-A7D6-67867DA3F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E649C6-AEDC-43CE-9608-C38139CE1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86D445-C225-4EB5-8E46-100E725DC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4074F1-667D-4EFE-AE2F-C4A6B4F181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D5998-5709-48B2-ADC4-647F9EC60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5F5AC6-3BBD-427C-9742-AD16D1B0D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FC139-FF63-4582-AA51-BCB084A8A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2E0F3F-9DC1-40CA-896F-1B1E2476D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B82806-C1E2-4EAB-BC25-2DBD442CE4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C7D234-DF62-40ED-87F5-C39084AE6C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EB0BA-FAF2-4F9B-AAD1-F1138CF7D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EB108-41D4-4FF1-92CD-6D75F24B5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6288-5D94-4231-BE55-0FE4BE29D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DAA7A-0CDF-40A1-A71B-FF5B4CF50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EEA97-B1B9-430D-8E38-B88D45500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DBFF-3F43-49E0-92B2-F50D39D6357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AC8A-8EDD-46D4-B9C2-79FDD66BFBF2}"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7E74-2F36-46A4-A39F-1E2AB7091B78}"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7487-B2F9-46FD-B363-A45B3C41442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HYSICAL EDUCATION </a:t>
            </a:r>
            <a:br>
              <a:rPr sz="4500"/>
            </a:br>
            <a:r>
              <a:rPr b="1" lang="en-US" sz="4500" spc="-1" strike="noStrike">
                <a:solidFill>
                  <a:srgbClr val="04617b"/>
                </a:solidFill>
                <a:latin typeface="Calibri"/>
              </a:rPr>
              <a:t>Objective P1.</a:t>
            </a:r>
            <a:endParaRPr b="0" lang="en-US" sz="45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Ensure that students are moderately to vigorously active at least 50 percent of the time in all physical education class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ARK </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orts, Play, and Active Recreation for Kids curriculum emphases active engagement in physical activity and participation of all students. It offers developmentally appropriate instruction in a large variety of sports, skills and fitness activiti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PS Physical Education Curriculum</a:t>
            </a:r>
            <a:endParaRPr b="0" lang="en-US" sz="45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s Academic Achievement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s moderate to vigorous physical activity in students (to over 50% of class time)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tness achievement (as measured by the FitnessGram test)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s successful experiences for all students</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8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rPr>
              <a:t>Fitness for Life: Middle School</a:t>
            </a:r>
            <a:r>
              <a:rPr b="0" lang="en-US" sz="2200" spc="-1" strike="noStrike">
                <a:solidFill>
                  <a:srgbClr val="000000"/>
                </a:solidFill>
                <a:latin typeface="Constantia"/>
              </a:rPr>
              <a:t> provides a foundation for students to be physically active and fit throughout their whole lives. This middle school version of the award-winning high school text </a:t>
            </a:r>
            <a:r>
              <a:rPr b="0" i="1" lang="en-US" sz="2200" spc="-1" strike="noStrike">
                <a:solidFill>
                  <a:srgbClr val="000000"/>
                </a:solidFill>
                <a:latin typeface="Constantia"/>
              </a:rPr>
              <a:t>Fitness for Life</a:t>
            </a:r>
            <a:r>
              <a:rPr b="0" lang="en-US" sz="2200" spc="-1" strike="noStrike">
                <a:solidFill>
                  <a:srgbClr val="000000"/>
                </a:solidFill>
                <a:latin typeface="Constantia"/>
              </a:rPr>
              <a:t> meets the new NASPE National Physical Education Standards and state standards, and it is an ideal companion to the FITNESSGRAM/ACTIVITYGRAM assessment program. This book includes everything that made the original </a:t>
            </a:r>
            <a:r>
              <a:rPr b="0" i="1" lang="en-US" sz="2200" spc="-1" strike="noStrike">
                <a:solidFill>
                  <a:srgbClr val="000000"/>
                </a:solidFill>
                <a:latin typeface="Constantia"/>
              </a:rPr>
              <a:t>Fitness for Life</a:t>
            </a:r>
            <a:r>
              <a:rPr b="0" lang="en-US" sz="2200" spc="-1" strike="noStrike">
                <a:solidFill>
                  <a:srgbClr val="000000"/>
                </a:solidFill>
                <a:latin typeface="Constantia"/>
              </a:rPr>
              <a:t> one of the most widely used and respected high school texts. In addition, </a:t>
            </a:r>
            <a:r>
              <a:rPr b="0" i="1" lang="en-US" sz="2200" spc="-1" strike="noStrike">
                <a:solidFill>
                  <a:srgbClr val="000000"/>
                </a:solidFill>
                <a:latin typeface="Constantia"/>
              </a:rPr>
              <a:t>Fitness for Life: Middle School</a:t>
            </a:r>
            <a:r>
              <a:rPr b="0" lang="en-US" sz="2200" spc="-1" strike="noStrike">
                <a:solidFill>
                  <a:srgbClr val="000000"/>
                </a:solidFill>
                <a:latin typeface="Constantia"/>
              </a:rPr>
              <a:t> follows the IDEA formula:</a:t>
            </a:r>
            <a:br>
              <a:rPr sz="2200"/>
            </a:br>
            <a:r>
              <a:rPr b="0" lang="en-US" sz="2200" spc="-1" strike="noStrike">
                <a:solidFill>
                  <a:srgbClr val="000000"/>
                </a:solidFill>
                <a:latin typeface="Constantia"/>
              </a:rPr>
              <a:t>I = Integrates with other academic areas (e.g., math, science, language arts)</a:t>
            </a:r>
            <a:br>
              <a:rPr sz="2200"/>
            </a:br>
            <a:r>
              <a:rPr b="0" lang="en-US" sz="2200" spc="-1" strike="noStrike">
                <a:solidFill>
                  <a:srgbClr val="000000"/>
                </a:solidFill>
                <a:latin typeface="Constantia"/>
              </a:rPr>
              <a:t>D = Developmentally appropriate for middle school students</a:t>
            </a:r>
            <a:br>
              <a:rPr sz="2200"/>
            </a:br>
            <a:r>
              <a:rPr b="0" lang="en-US" sz="2200" spc="-1" strike="noStrike">
                <a:solidFill>
                  <a:srgbClr val="000000"/>
                </a:solidFill>
                <a:latin typeface="Constantia"/>
              </a:rPr>
              <a:t>E = Educationally and pedagogically sound</a:t>
            </a:r>
            <a:br>
              <a:rPr sz="2200"/>
            </a:br>
            <a:r>
              <a:rPr b="0" lang="en-US" sz="2200" spc="-1" strike="noStrike">
                <a:solidFill>
                  <a:srgbClr val="000000"/>
                </a:solidFill>
                <a:latin typeface="Constantia"/>
              </a:rPr>
              <a:t>A = Articulates with the high school level Fitness for Life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tness for life curriculum from…wrap around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ies have shown that children having one or more daily recess periods of greater than fifteen minutes is associated with better teacher reported classroom behavio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hools have the potential to influence habitual physical activity among children by encouraging increased participation in extracurricular spot activities , by favoring active commuting to school, and by providing exercise equipment and supervision for youth in their neighborhood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derate to Vigorou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nstantia"/>
              </a:rPr>
              <a:t>Moderately to vigorously active</a:t>
            </a:r>
            <a:r>
              <a:rPr b="0" lang="en-US" sz="3200" spc="-1" strike="noStrike">
                <a:solidFill>
                  <a:srgbClr val="000000"/>
                </a:solidFill>
                <a:latin typeface="Constantia"/>
              </a:rPr>
              <a:t> means engaging in physical activity equal in intensity to or more strenuous than fast walking.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nstantia"/>
              </a:rPr>
              <a:t>At least 50 percent of the time</a:t>
            </a:r>
            <a:r>
              <a:rPr b="0" lang="en-US" sz="3200" spc="-1" strike="noStrike">
                <a:solidFill>
                  <a:srgbClr val="000000"/>
                </a:solidFill>
                <a:latin typeface="Constantia"/>
              </a:rPr>
              <a:t> means at least half of the total time for a physical education class session.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fessional Development</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fer professional development for physical education teachers focused on strategies to increase the time students are moderately to vigorously activ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mproved teacher quantity and quality of instruction effects sustainabilit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ver 100 hours of Professional Development Opportunities</a:t>
            </a:r>
            <a:endParaRPr b="0" lang="en-US" sz="3600" spc="-1" strike="noStrike">
              <a:solidFill>
                <a:srgbClr val="04617b"/>
              </a:solidFill>
              <a:latin typeface="Calibri"/>
            </a:endParaRPr>
          </a:p>
        </p:txBody>
      </p:sp>
      <p:sp>
        <p:nvSpPr>
          <p:cNvPr id="209" name=""/>
          <p:cNvSpPr txBox="1"/>
          <p:nvPr/>
        </p:nvSpPr>
        <p:spPr>
          <a:xfrm>
            <a:off x="457200" y="2057040"/>
            <a:ext cx="8229600" cy="4267080"/>
          </a:xfrm>
          <a:prstGeom prst="rect">
            <a:avLst/>
          </a:prstGeom>
          <a:noFill/>
          <a:ln w="0">
            <a:noFill/>
          </a:ln>
        </p:spPr>
        <p:txBody>
          <a:bodyPr anchor="t">
            <a:normAutofit fontScale="93000"/>
          </a:bodyPr>
          <a:p>
            <a:pPr marL="253440" indent="-253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ofessional development related to specific curriculum content offered throughout the school year on Monday evenings.</a:t>
            </a: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ree Day DPS Summer Institute hosts the National Physical Education Teachers of the Year who provide training for DPS and physical education teachers statewide.</a:t>
            </a:r>
            <a:endParaRPr b="0" lang="en-US" sz="1900" spc="-1" strike="noStrike">
              <a:solidFill>
                <a:srgbClr val="000000"/>
              </a:solidFill>
              <a:latin typeface="Constantia"/>
            </a:endParaRPr>
          </a:p>
          <a:p>
            <a:pPr marL="253440" indent="-253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hysical Education for Progress (PEP Grant) training provides training for all K-5, and K-8 physical education teachers completed by summer 2013.</a:t>
            </a: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Fitness  for Life training, as part of the Sound Body Sound Mind grant impacts teachers at 6-12 and high school level.</a:t>
            </a:r>
            <a:endParaRPr b="0" lang="en-US" sz="19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50320" indent="-2289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PS Physical Education Curriculum </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PS Curriculum is designed to meet the requirement of 50 % moderate to vigorous physical activit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nver Public Schools Physical Education Curriculum meets Colorado and National Standards for Physical Educ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HYSICAL EDUCATION Objective P2.</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lement a policy prohibiting substitution* of physical education and recess time for classroom make-up work, behavior issues, and programs with content other than physical education.</a:t>
            </a:r>
            <a:r>
              <a:rPr b="0" lang="en-US" sz="2600" spc="-1" strike="noStrike">
                <a:solidFill>
                  <a:srgbClr val="000000"/>
                </a:solidFill>
                <a:latin typeface="Constantia"/>
              </a:rPr>
              <a:t> At the elementary level, *</a:t>
            </a:r>
            <a:r>
              <a:rPr b="0" lang="en-US" sz="2600" spc="-1" strike="noStrike" u="sng">
                <a:solidFill>
                  <a:srgbClr val="000000"/>
                </a:solidFill>
                <a:uFillTx/>
                <a:latin typeface="Constantia"/>
              </a:rPr>
              <a:t>prohibit </a:t>
            </a:r>
            <a:r>
              <a:rPr b="0" lang="en-US" sz="2600" spc="-1" strike="noStrike">
                <a:solidFill>
                  <a:srgbClr val="000000"/>
                </a:solidFill>
                <a:latin typeface="Constantia"/>
              </a:rPr>
              <a:t>substitution means that the school does not allow students to be pulled from physical education class or recess as an intervention for not completing classroom work or as a punishment for inappropriate behavio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the secondary level, *</a:t>
            </a:r>
            <a:r>
              <a:rPr b="0" lang="en-US" sz="2600" spc="-1" strike="noStrike" u="sng">
                <a:solidFill>
                  <a:srgbClr val="000000"/>
                </a:solidFill>
                <a:uFillTx/>
                <a:latin typeface="Constantia"/>
              </a:rPr>
              <a:t>prohibit substitution</a:t>
            </a:r>
            <a:r>
              <a:rPr b="0" lang="en-US" sz="2600" spc="-1" strike="noStrike">
                <a:solidFill>
                  <a:srgbClr val="000000"/>
                </a:solidFill>
                <a:latin typeface="Constantia"/>
              </a:rPr>
              <a:t> means that the school does not schedule presentations or curricula other than fitness and physical education-related ones during physical education time (i.e., prevention of substance use or suicide). Presentations by entities other than PE/dance teachers should be offered on a rotating basis with all classrooms, not just physical education. </a:t>
            </a:r>
            <a:r>
              <a:rPr b="0" lang="en-US" sz="2600" spc="-1" strike="noStrike" u="sng">
                <a:solidFill>
                  <a:srgbClr val="000000"/>
                </a:solidFill>
                <a:uFillTx/>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1" descr=""/>
          <p:cNvPicPr/>
          <p:nvPr/>
        </p:nvPicPr>
        <p:blipFill>
          <a:blip r:embed="rId1"/>
          <a:stretch/>
        </p:blipFill>
        <p:spPr>
          <a:xfrm>
            <a:off x="268200" y="701640"/>
            <a:ext cx="8504280" cy="603360"/>
          </a:xfrm>
          <a:prstGeom prst="rect">
            <a:avLst/>
          </a:prstGeom>
          <a:ln w="0">
            <a:noFill/>
          </a:ln>
        </p:spPr>
      </p:pic>
      <p:sp>
        <p:nvSpPr>
          <p:cNvPr id="217" name="PlaceHolder 1"/>
          <p:cNvSpPr>
            <a:spLocks noGrp="1"/>
          </p:cNvSpPr>
          <p:nvPr>
            <p:ph type="subTitle"/>
          </p:nvPr>
        </p:nvSpPr>
        <p:spPr>
          <a:xfrm>
            <a:off x="380520" y="1523520"/>
            <a:ext cx="8458200" cy="4800600"/>
          </a:xfrm>
          <a:prstGeom prst="rect">
            <a:avLst/>
          </a:prstGeom>
          <a:noFill/>
          <a:ln w="0">
            <a:noFill/>
          </a:ln>
        </p:spPr>
        <p:txBody>
          <a:bodyPr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2000" spc="-1" strike="noStrike">
                <a:solidFill>
                  <a:srgbClr val="000000"/>
                </a:solidFill>
                <a:latin typeface="Arial"/>
                <a:ea typeface="Arial"/>
              </a:rPr>
              <a:t>Researchers analyzed FITNESSGRAM® test results from more than 2.4 million Texas students in grades 3 to 12 during the 2007–08 school year and found significant school-level correlations between physical fitness achievement and better performance on state standardized tests.</a:t>
            </a:r>
            <a:endParaRPr b="0" lang="en-US" sz="2000" spc="-1" strike="noStrike">
              <a:solidFill>
                <a:srgbClr val="000000"/>
              </a:solidFill>
              <a:latin typeface="Constantia"/>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gher physical fitness achievement also was associated with better school attendance rates and fewer disciplinary incidents involving drugs, alcohol, violence or truancy. Associations were stronger for cardiovascular fitness than for measures of body mass index (BMI), but the patterns were consistent. The analyses controlled for potential confounding variables, such as socioeconomic status, minority status and school size, that could influence the correlations. The study is currently in review, and as of August 2009, these data were unpublished.42</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685440"/>
            <a:ext cx="82296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4617b"/>
                </a:solidFill>
                <a:latin typeface="Calibri"/>
              </a:rPr>
              <a:t>PHYSICAL ACTIVITY Objective P3. </a:t>
            </a:r>
            <a:br>
              <a:rPr sz="4500"/>
            </a:b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sure that at least 50 percent of students will participate in school-sponsored extracurricular or community-based activities that include physical activ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8:49:48Z</dcterms:created>
  <dc:creator>DPS</dc:creator>
  <dc:description/>
  <dc:language>en-US</dc:language>
  <cp:lastModifiedBy>DPS</cp:lastModifiedBy>
  <dcterms:modified xsi:type="dcterms:W3CDTF">2010-03-10T18:28:30Z</dcterms:modified>
  <cp:revision>24</cp:revision>
  <dc:subject/>
  <dc:title>Fitness Gram Assessment</dc:title>
</cp:coreProperties>
</file>